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B6A0-448C-490F-88FE-25511765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7BD0-322E-4A30-8A0D-08AA43E8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826-B573-4B48-9D84-3EFC4315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7A1-369C-4C6A-885F-C1B04741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C3C-101C-4B92-B952-6714E290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69A-CEE7-4A4F-AEDA-D3146A7D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1CF-C8FB-4DEB-B179-9A4B92AD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FF1-3207-455B-8C56-1EE2C325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A7D-B69E-4796-AFD1-2D8BFC7F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453-7461-4FFB-A717-7043E313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13A-4FB1-40F1-9391-13247036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C0F-BD76-4136-8531-12BFE245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970-7810-41CC-95CC-6A99E868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736-3AFD-4923-B6FE-B60BA0E6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69A-5B29-4662-9685-DC4C253EA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omo están usted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tambié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Que t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3:25Z</dcterms:created>
  <dc:creator>FriscoISD</dc:creator>
  <dc:description/>
  <dc:language>en-US</dc:language>
  <cp:lastModifiedBy>NYCDOE</cp:lastModifiedBy>
  <dcterms:modified xsi:type="dcterms:W3CDTF">2012-12-03T14:56:46Z</dcterms:modified>
  <cp:revision>103</cp:revision>
  <dc:subject/>
  <dc:title>Profile</dc:title>
</cp:coreProperties>
</file>